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B43-DA71-4BD2-91FA-C365B600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0B3-167F-47FE-AE87-8C52297C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A23-60A2-4323-8E0D-2BBB0BA0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D9F0-EA0F-42B8-9352-DFCF1C6B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1C36-8710-48CD-AD5C-8E2CAE08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5EC9-084D-4BA3-A254-4904A642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FEEF-6D18-461E-84FF-2432DD05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6105-F2CD-4D9A-AE3E-7A3A7CA9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D5E5-2647-463D-B561-DF2CC280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A0CD-EB1A-46E2-8555-7244A5D2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1F4E-E050-456E-87DB-EFA7B79B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E6A-3650-4C17-A5B1-61FE14C0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B3A6-A8C5-4F21-84A9-46905FE7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B7CE-75A3-440F-94AA-941E97C9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4488-2040-4954-8651-B0060C13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ABA1-ADB2-41F8-BD12-809B11F1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E783-7DEC-428B-9D42-2D8E55DE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7FB-406C-43A8-A992-2607CE64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9A1-FD0A-44E0-91BA-F53F830B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210F-8A85-49A6-A8BC-A1C6F1A8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8B8-E741-4D2F-B76D-17114776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46B94-970A-4E79-B5C7-925E08C0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66D98-59A5-4CB6-94B8-F1E19D9A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1C265-3F3C-435D-87E7-F8541BBD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F7123-689E-41DF-9D96-BB36F965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18908-6348-4EEF-A8BA-A80E7343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5DB24-0EA3-4433-AEC0-77B4FF32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6963-CA96-40B9-977F-37D059EC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1D692-C847-43F8-96EE-55F2E0D4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3DD8-9043-409C-A7CA-C0A3E3E6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7A5A5-9662-4F09-9E18-E682CF87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9D8-2256-47C6-9DFA-DAB8BA9E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1C2C8-95A7-446A-8EE6-1A324AB2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F2AC-C0F1-4B97-8F51-D7B41BE5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113-56CA-49DD-973C-58B37902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DB2-717C-43FC-A361-8E4F35DA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A34ED-FC8E-4C59-94B4-94D8B30B50B1}" type="datetime"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31951-0306-4C3B-8D4C-2A391A5BA60A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53EA6-F1BF-47BB-8926-57F6535E8BE9}" type="datetime"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09680" y="6275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BEAF1-F673-461E-8F64-57AD75D13427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Rectangle 7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Rectangle 8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Rectangle 9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D7199-A535-4F4E-99AE-ADC6C3472935}" type="datetime"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6402E-7BD2-460C-AAA9-DA49F1737092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6000" y="739800"/>
            <a:ext cx="8513640" cy="27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10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8d9ab3"/>
                </a:solidFill>
                <a:latin typeface="Century Gothic"/>
              </a:rPr>
              <a:t>The Final Days</a:t>
            </a:r>
            <a:endParaRPr b="0" lang="en-US" sz="100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04" name="Picture 3" descr="images.jpg"/>
          <p:cNvPicPr/>
          <p:nvPr/>
        </p:nvPicPr>
        <p:blipFill>
          <a:blip r:embed="rId2"/>
          <a:stretch/>
        </p:blipFill>
        <p:spPr>
          <a:xfrm>
            <a:off x="2590920" y="3659040"/>
            <a:ext cx="38862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Public Opinion 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People were angry and tired of the wa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ery expensiv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any casualti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No end in sigh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1800" y="1227240"/>
            <a:ext cx="36576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f03"/>
                </a:solidFill>
                <a:latin typeface="Century Gothic"/>
              </a:rPr>
              <a:t>Election of 1864</a:t>
            </a:r>
            <a:endParaRPr b="0" lang="en-US" sz="36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08" name="Picture Placeholder 11" descr="images1.jpg"/>
          <p:cNvPicPr/>
          <p:nvPr/>
        </p:nvPicPr>
        <p:blipFill>
          <a:blip r:embed="rId2"/>
          <a:srcRect l="0" t="-34731" r="0" b="-34731"/>
          <a:stretch/>
        </p:blipFill>
        <p:spPr>
          <a:xfrm rot="193800">
            <a:off x="4844520" y="976320"/>
            <a:ext cx="3497400" cy="4746600"/>
          </a:xfrm>
          <a:prstGeom prst="rect">
            <a:avLst/>
          </a:prstGeom>
          <a:ln cap="sq" w="1778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31800" y="1800360"/>
            <a:ext cx="365760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54638c"/>
              </a:buClr>
              <a:buSzPct val="9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Lincoln runs for re-election for the Republican Par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54638c"/>
              </a:buClr>
              <a:buSzPct val="9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Democrats nominate General George McClella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McClellan Gains Momentum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Gen. McClellan promises to stop hostilities and negotiate peace with the Confederates to restore the Union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ow would that have worked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Lincoln fears that he will los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 am going to be beaten.”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Sherman and Grant win i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31440" y="2057400"/>
            <a:ext cx="3863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eanwhile, Gen. Sherman was in the middle of his “March to the Sea”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Rampaged through Georgia, then up the coast into South Carolin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rant was battling Lee in Virgini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ege of Petersburg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ways public opinion about the w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Content Placeholder 4" descr="images2.jpg"/>
          <p:cNvPicPr/>
          <p:nvPr/>
        </p:nvPicPr>
        <p:blipFill>
          <a:blip r:embed="rId2"/>
          <a:srcRect l="0" t="-29740" r="0" b="-29740"/>
          <a:stretch/>
        </p:blipFill>
        <p:spPr>
          <a:xfrm>
            <a:off x="4495680" y="1828800"/>
            <a:ext cx="441972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31800" y="1720800"/>
            <a:ext cx="36576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f03"/>
                </a:solidFill>
                <a:latin typeface="Century Gothic"/>
              </a:rPr>
              <a:t>Lincoln Wins!</a:t>
            </a:r>
            <a:endParaRPr b="0" lang="en-US" sz="36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16" name="Content Placeholder 4" descr="images3.jpg"/>
          <p:cNvPicPr/>
          <p:nvPr/>
        </p:nvPicPr>
        <p:blipFill>
          <a:blip r:embed="rId2"/>
          <a:srcRect l="0" t="-70374" r="0" b="-70374"/>
          <a:stretch/>
        </p:blipFill>
        <p:spPr>
          <a:xfrm>
            <a:off x="4114800" y="0"/>
            <a:ext cx="5029200" cy="71992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1800" y="2878200"/>
            <a:ext cx="365760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mmediately, Lincoln passes the 1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mendment, permanently ending slaver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Less voters? 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5040" y="1546200"/>
            <a:ext cx="38685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d9ab3"/>
                </a:solidFill>
                <a:latin typeface="Century Gothic"/>
              </a:rPr>
              <a:t>1860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30360" y="2147760"/>
            <a:ext cx="38685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4,685,561 total vot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03 electoral college vot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160" y="1544760"/>
            <a:ext cx="386712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d9ab3"/>
                </a:solidFill>
                <a:latin typeface="Century Gothic"/>
              </a:rPr>
              <a:t>1864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64160" y="2147760"/>
            <a:ext cx="38671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4,031,887 total vot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234 electoral vot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The South Surrender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24" name="Content Placeholder 4" descr="images4.jpg"/>
          <p:cNvPicPr/>
          <p:nvPr/>
        </p:nvPicPr>
        <p:blipFill>
          <a:blip r:embed="rId2"/>
          <a:srcRect l="0" t="-26702" r="0" b="-26702"/>
          <a:stretch/>
        </p:blipFill>
        <p:spPr>
          <a:xfrm>
            <a:off x="631800" y="2057400"/>
            <a:ext cx="3863880" cy="4068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660920" y="2057400"/>
            <a:ext cx="38685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ee surrenders on April 9, 1865 to General G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rant allows Lee to keep his sword, and all Confederate soldiers may keep their hors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rant also declares that they will not prosecute any Confederate soldiers for treaso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31440" y="4330440"/>
            <a:ext cx="7907400" cy="9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f03"/>
                </a:solidFill>
                <a:latin typeface="Century Gothic"/>
              </a:rPr>
              <a:t>Bittersweet Victory</a:t>
            </a:r>
            <a:endParaRPr b="0" lang="en-US" sz="36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32880" y="5257800"/>
            <a:ext cx="7905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pril 14, 1865 – President Lincoln is assassinated by John Wilkes Booth at Ford’s Theate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8" name="Picture Placeholder 4" descr="images5.jpg"/>
          <p:cNvPicPr/>
          <p:nvPr/>
        </p:nvPicPr>
        <p:blipFill>
          <a:blip r:embed="rId2"/>
          <a:srcRect l="-6265" t="0" r="-6265" b="0"/>
          <a:stretch/>
        </p:blipFill>
        <p:spPr>
          <a:xfrm rot="318600">
            <a:off x="2076480" y="741240"/>
            <a:ext cx="4913280" cy="3240360"/>
          </a:xfrm>
          <a:prstGeom prst="rect">
            <a:avLst/>
          </a:prstGeom>
          <a:ln cap="sq" w="1778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1:48:23Z</dcterms:created>
  <dc:creator>Moffa, David</dc:creator>
  <dc:description/>
  <dc:language>en-US</dc:language>
  <cp:lastModifiedBy>Moffa, David</cp:lastModifiedBy>
  <dcterms:modified xsi:type="dcterms:W3CDTF">2011-03-23T12:23:38Z</dcterms:modified>
  <cp:revision>14</cp:revision>
  <dc:subject/>
  <dc:title>The Final Days</dc:title>
</cp:coreProperties>
</file>